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5B01-7561-48E8-B82B-2940B7747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8C04-FEB6-4796-B8B1-1BC7C454C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D68D-B9CC-49B1-9560-C0D6CE304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7305-0A4F-4E4B-871D-DF3B57DE5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1D7F-4CC3-4B9B-B696-E1DF05197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7FF3-4C2C-4FC2-99B8-2BC34171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2F52-3B9F-4FBA-B8C2-E66266C3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8F8B-6E83-4F1D-B798-90F6492B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AF97-5F82-497D-A14E-E1A3A970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E4BF-F949-4E58-8E47-65A990E1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5A06-B107-49A7-9C91-EF72E686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6DC5-FA1D-4F3C-A0F3-F0B20A73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4C77-E7FB-49C2-99D8-1310F5B5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CB66-A91E-48C9-B99B-356B1B22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18AF-545A-4775-8EF6-4DF8D8B6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A4D6-5B74-42EE-AC01-90E991C8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186-50FA-4E0C-990B-62432EA7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B9BC-22C0-489C-A81C-CD48DF30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5391-3FA8-44AC-901D-45CCF9AC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7D6D-9D69-4692-BA03-9762CF3C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403C-6188-48A3-AD97-5E4F9CD6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A2FF-913C-4D90-B0C2-45560540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AE99-5D92-42CC-B5B8-8C278C28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D3D5-1CDF-48EB-9A59-4FCF8B7B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5C2-6E2B-4C00-8895-F78DB08F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B89E-A7B9-49AF-8FBE-DA542AFE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C6AF-716D-4776-A647-000F9DBE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8EDE-2BA0-43AC-A033-292DDBBD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4C00-62E4-444E-BD0F-5CAC4345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FDB5-2A7E-4FF1-93F0-A039D4227D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A0F3-836C-4302-8AB8-075162624D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AUTOR-NARATOR-PERSONAJ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1066680" y="365760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reptunghi 5"/>
          <p:cNvSpPr/>
          <p:nvPr/>
        </p:nvSpPr>
        <p:spPr>
          <a:xfrm>
            <a:off x="2286000" y="41911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Cum poate literatur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ui autor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s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uenteze viata noastra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Ce inteleg prin AUTO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1600200"/>
          <a:ext cx="8077320" cy="453060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u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rea s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ă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u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învăţ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Ce inteleg prin NARATO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66680" y="2362320"/>
          <a:ext cx="7620120" cy="376848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15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u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rea s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ă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u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învăţ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Ce inteleg prin PERSONAJ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?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09480" y="1600200"/>
          <a:ext cx="8077320" cy="453060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u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rea s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ă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u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învăţ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Ce relatie/raport se poate stabili intre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AUTOR-NARATOR-PERSONAJ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14400" y="2057400"/>
          <a:ext cx="7620120" cy="376884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15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u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rea s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ă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u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învăţ</a:t>
                      </a: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User</cp:lastModifiedBy>
  <dcterms:modified xsi:type="dcterms:W3CDTF">2011-01-14T10:09:16Z</dcterms:modified>
  <cp:revision>12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